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BE2-8484-4EB7-9F86-C1D7CF6C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F60-A287-47A9-B3F7-379A8AC5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94C-4AED-4EAC-B1AF-E89916A5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D12-1F6B-4262-B97D-C341760E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8634-43EB-40EE-B00D-C03B0E4C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001F-770A-4D47-B58E-AB5A3024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95C8-681A-45A7-9D08-C45590E2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B41C-0E08-4EF1-9042-C45B8BBC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2EB3-142E-4E9A-BF9C-08A9017D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4818-9D01-4AC5-B27D-DF4E7585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90AB-5530-4EAF-BBDF-2BF9E572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95A-931B-44B7-9607-9419D881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338B-2414-410F-852B-C52555F7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5CBE-CDD9-44A4-BD17-7D62D54A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04CF-468B-4834-B9BD-E23C388E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9403-F84E-4DC9-B2D4-A8F79F04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134E-CF14-4F03-A565-32259135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0B7-7634-4A3B-8B10-94D4645A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3D7-647F-43B7-8414-75CCDE01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CDF-5F89-4CE7-85EF-45E1EC24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F75-39EF-4FA6-8CEB-EC187B33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44A-17B1-47CB-A80B-C7B7F760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50C-0145-4FAA-876E-F7F2A679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985-520D-4086-AFA7-7605012F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CA7B-052A-4209-8D31-910D839A9DB5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4CED-3321-42FF-BD26-47F2BBADEE9F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KOREAN LANGU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LVEL 1 (NOVICE)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General Course Information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Instructor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Transitional P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32172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400" spc="-1" strike="noStrike">
              <a:solidFill>
                <a:srgbClr val="000000"/>
              </a:solidFill>
              <a:latin typeface="Eurostile"/>
              <a:ea typeface="굴림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Your Topic Goes Here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Elements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www.animationfactory.co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92" name="Picture 224" descr="Z:\newtek\_backgrounds_1.02\Tim\powerpoint templates\101-120\cloud_skipper\cloud_skipper_prt.jpg"/>
          <p:cNvPicPr/>
          <p:nvPr/>
        </p:nvPicPr>
        <p:blipFill>
          <a:blip r:embed="rId1"/>
          <a:stretch/>
        </p:blipFill>
        <p:spPr>
          <a:xfrm>
            <a:off x="6983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5" descr="Z:\newtek\_backgrounds_1.02\Tim\powerpoint templates\101-120\cloud_skipper\cloud_skipper_qx.jpg"/>
          <p:cNvPicPr/>
          <p:nvPr/>
        </p:nvPicPr>
        <p:blipFill>
          <a:blip r:embed="rId2"/>
          <a:stretch/>
        </p:blipFill>
        <p:spPr>
          <a:xfrm>
            <a:off x="152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6" descr="Z:\newtek\_backgrounds_1.02\Tim\powerpoint templates\101-120\cloud_skipper\cloud_skipper_sld.jpg"/>
          <p:cNvPicPr/>
          <p:nvPr/>
        </p:nvPicPr>
        <p:blipFill>
          <a:blip r:embed="rId3"/>
          <a:stretch/>
        </p:blipFill>
        <p:spPr>
          <a:xfrm>
            <a:off x="2428920" y="5218200"/>
            <a:ext cx="2009880" cy="150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7" descr="Z:\newtek\_backgrounds_1.02\Tim\powerpoint templates\101-120\cloud_skipper\cloud_skipper_trs.jpg"/>
          <p:cNvPicPr/>
          <p:nvPr/>
        </p:nvPicPr>
        <p:blipFill>
          <a:blip r:embed="rId4"/>
          <a:stretch/>
        </p:blipFill>
        <p:spPr>
          <a:xfrm>
            <a:off x="4705200" y="5218200"/>
            <a:ext cx="2009880" cy="150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y</cp:lastModifiedBy>
  <dcterms:modified xsi:type="dcterms:W3CDTF">2012-07-26T08:41:49Z</dcterms:modified>
  <cp:revision>1</cp:revision>
  <dc:subject/>
  <dc:title>KOREAN LANGUAGE</dc:title>
</cp:coreProperties>
</file>